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4070520" y="8672400"/>
            <a:ext cx="2133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10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6220800" y="8813880"/>
            <a:ext cx="788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D22655A-EDDA-46B7-AA5A-5E5672F60A5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 flipH="1">
            <a:off x="228600" y="8699400"/>
            <a:ext cx="6477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SEI_CMU_1Line_Blk"/>
          <p:cNvPicPr/>
          <p:nvPr/>
        </p:nvPicPr>
        <p:blipFill>
          <a:blip r:embed="rId2"/>
          <a:stretch/>
        </p:blipFill>
        <p:spPr>
          <a:xfrm>
            <a:off x="260280" y="8794800"/>
            <a:ext cx="3727440" cy="22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D8C7-2496-4ABC-941E-71C562E5723D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CF5C251-06E0-480B-8524-2C7DE7A293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4AE5-D4F8-4354-BB68-B221D6106E9F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1013-77C9-4D63-94DB-7ABD43D60735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4A1751A-BD28-4B7D-8915-D794E2A1D7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5A07-42A9-41B9-A2C0-D714AB504822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F9FE-DD70-46CD-AC30-D18E4C46D596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DA25-A8C3-47EB-815C-8EF6E314DBAB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98308F4-7293-49B6-8BB2-BC3832FE28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eeting report instructions (on page 5 of the “Meeting 1” tab) describe how to prepare the meeting notice/agenda and complete the decisions, actions, and key information sections of the meeting repo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08E8ABA-713C-412A-903A-C734DE470D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6BB3F7A-D053-4660-8797-65778E21AF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201B18F-3787-48AC-BFA6-BB30EE1650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3B68C56-E27D-4341-9C74-E4187E9780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0E2B11C-E6C0-4DC9-9F62-994830B4C6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93B528C-6E20-425E-A0BA-907D5E6D85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826EE3F-2AE0-40C2-8708-EE0D9278D4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178FAB4-389F-41CA-B75F-7CC6A14687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F35D67F-09A5-41E1-9C56-5C13D629FF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4D52D10-BB0D-42A8-BC96-41CC063BEA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6B639CF-C79E-4D04-AE07-D8A8807B26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3925800" y="8767800"/>
            <a:ext cx="3008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0837895-18CE-4A04-80A3-282A7A9F36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lide and the following 3 slides are primarily for first time teams. When launching with a team that has used TSP before, these slides can be skipp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C444D4E-232A-4E4F-89F5-92B940EDC6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the meeting process is described on page 4 and the meeting roles are described on page 3 of the meeting 1 section of the Launch note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going through this slide, ask for volunteers to be the timekeeper and recorder for this mee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F5D6C2D-55F3-48CB-90D7-20D0E389AA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E16E18C-8A47-4CE3-9458-2C1F78E575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952640" y="604800"/>
            <a:ext cx="2811600" cy="2108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6"/>
          <p:cNvSpPr/>
          <p:nvPr/>
        </p:nvSpPr>
        <p:spPr>
          <a:xfrm>
            <a:off x="8153280" y="6405480"/>
            <a:ext cx="838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0016-2619-496F-A1DE-BD5E60254760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br>
              <a:rPr sz="800"/>
            </a:b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7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" name="Line 78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9"/>
          <p:cNvSpPr/>
          <p:nvPr/>
        </p:nvSpPr>
        <p:spPr>
          <a:xfrm>
            <a:off x="6254640" y="6318720"/>
            <a:ext cx="2355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4"/>
          <p:cNvSpPr/>
          <p:nvPr/>
        </p:nvSpPr>
        <p:spPr>
          <a:xfrm>
            <a:off x="7478640" y="6410160"/>
            <a:ext cx="1665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5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4" name="Line 56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7"/>
          <p:cNvGrpSpPr/>
          <p:nvPr/>
        </p:nvGrpSpPr>
        <p:grpSpPr>
          <a:xfrm>
            <a:off x="20520" y="23760"/>
            <a:ext cx="4076640" cy="6124680"/>
            <a:chOff x="20520" y="23760"/>
            <a:chExt cx="4076640" cy="6124680"/>
          </a:xfrm>
        </p:grpSpPr>
        <p:sp>
          <p:nvSpPr>
            <p:cNvPr id="46" name="Freeform 58"/>
            <p:cNvSpPr/>
            <p:nvPr/>
          </p:nvSpPr>
          <p:spPr>
            <a:xfrm>
              <a:off x="20520" y="347652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1004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906" y="98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9"/>
            <p:cNvSpPr/>
            <p:nvPr/>
          </p:nvSpPr>
          <p:spPr>
            <a:xfrm>
              <a:off x="20520" y="1612800"/>
              <a:ext cx="611280" cy="15552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311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409" y="98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0"/>
            <p:cNvSpPr/>
            <p:nvPr/>
          </p:nvSpPr>
          <p:spPr>
            <a:xfrm>
              <a:off x="20520" y="4427640"/>
              <a:ext cx="623160" cy="169920"/>
            </a:xfrm>
            <a:custGeom>
              <a:avLst/>
              <a:gdLst/>
              <a:ahLst/>
              <a:rect l="l" t="t" r="r" b="b"/>
              <a:pathLst>
                <a:path w="418" h="107">
                  <a:moveTo>
                    <a:pt x="418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311" y="107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1"/>
            <p:cNvSpPr/>
            <p:nvPr/>
          </p:nvSpPr>
          <p:spPr>
            <a:xfrm>
              <a:off x="20520" y="253836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906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1004" y="9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2"/>
            <p:cNvSpPr/>
            <p:nvPr/>
          </p:nvSpPr>
          <p:spPr>
            <a:xfrm>
              <a:off x="20520" y="1940040"/>
              <a:ext cx="3386520" cy="453960"/>
            </a:xfrm>
            <a:custGeom>
              <a:avLst/>
              <a:gdLst/>
              <a:ahLst/>
              <a:rect l="l" t="t" r="r" b="b"/>
              <a:pathLst>
                <a:path w="2266" h="285">
                  <a:moveTo>
                    <a:pt x="0" y="285"/>
                  </a:moveTo>
                  <a:lnTo>
                    <a:pt x="2266" y="285"/>
                  </a:lnTo>
                  <a:lnTo>
                    <a:pt x="1982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3"/>
            <p:cNvSpPr/>
            <p:nvPr/>
          </p:nvSpPr>
          <p:spPr>
            <a:xfrm>
              <a:off x="20520" y="3801960"/>
              <a:ext cx="3399840" cy="453960"/>
            </a:xfrm>
            <a:custGeom>
              <a:avLst/>
              <a:gdLst/>
              <a:ahLst/>
              <a:rect l="l" t="t" r="r" b="b"/>
              <a:pathLst>
                <a:path w="2275" h="285">
                  <a:moveTo>
                    <a:pt x="0" y="285"/>
                  </a:moveTo>
                  <a:lnTo>
                    <a:pt x="1991" y="285"/>
                  </a:lnTo>
                  <a:lnTo>
                    <a:pt x="227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4"/>
            <p:cNvSpPr/>
            <p:nvPr/>
          </p:nvSpPr>
          <p:spPr>
            <a:xfrm>
              <a:off x="20520" y="2865600"/>
              <a:ext cx="4076640" cy="453960"/>
            </a:xfrm>
            <a:custGeom>
              <a:avLst/>
              <a:gdLst/>
              <a:ahLst/>
              <a:rect l="l" t="t" r="r" b="b"/>
              <a:pathLst>
                <a:path w="2728" h="285">
                  <a:moveTo>
                    <a:pt x="2586" y="0"/>
                  </a:moveTo>
                  <a:lnTo>
                    <a:pt x="0" y="0"/>
                  </a:lnTo>
                  <a:lnTo>
                    <a:pt x="0" y="285"/>
                  </a:lnTo>
                  <a:lnTo>
                    <a:pt x="2586" y="285"/>
                  </a:lnTo>
                  <a:lnTo>
                    <a:pt x="2728" y="142"/>
                  </a:lnTo>
                  <a:lnTo>
                    <a:pt x="258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5"/>
            <p:cNvSpPr/>
            <p:nvPr/>
          </p:nvSpPr>
          <p:spPr>
            <a:xfrm>
              <a:off x="20520" y="4753080"/>
              <a:ext cx="2496960" cy="453960"/>
            </a:xfrm>
            <a:custGeom>
              <a:avLst/>
              <a:gdLst/>
              <a:ahLst/>
              <a:rect l="l" t="t" r="r" b="b"/>
              <a:pathLst>
                <a:path w="1671" h="285">
                  <a:moveTo>
                    <a:pt x="0" y="285"/>
                  </a:moveTo>
                  <a:lnTo>
                    <a:pt x="1386" y="285"/>
                  </a:lnTo>
                  <a:lnTo>
                    <a:pt x="1671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6"/>
            <p:cNvSpPr/>
            <p:nvPr/>
          </p:nvSpPr>
          <p:spPr>
            <a:xfrm>
              <a:off x="20520" y="5695920"/>
              <a:ext cx="1592640" cy="452520"/>
            </a:xfrm>
            <a:custGeom>
              <a:avLst/>
              <a:gdLst/>
              <a:ahLst/>
              <a:rect l="l" t="t" r="r" b="b"/>
              <a:pathLst>
                <a:path w="1066" h="284">
                  <a:moveTo>
                    <a:pt x="0" y="284"/>
                  </a:moveTo>
                  <a:lnTo>
                    <a:pt x="782" y="284"/>
                  </a:lnTo>
                  <a:lnTo>
                    <a:pt x="1066" y="0"/>
                  </a:lnTo>
                  <a:lnTo>
                    <a:pt x="0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7"/>
            <p:cNvSpPr/>
            <p:nvPr/>
          </p:nvSpPr>
          <p:spPr>
            <a:xfrm>
              <a:off x="20520" y="23760"/>
              <a:ext cx="1619640" cy="453960"/>
            </a:xfrm>
            <a:custGeom>
              <a:avLst/>
              <a:gdLst/>
              <a:ahLst/>
              <a:rect l="l" t="t" r="r" b="b"/>
              <a:pathLst>
                <a:path w="1084" h="285">
                  <a:moveTo>
                    <a:pt x="0" y="285"/>
                  </a:moveTo>
                  <a:lnTo>
                    <a:pt x="1084" y="285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8"/>
            <p:cNvSpPr/>
            <p:nvPr/>
          </p:nvSpPr>
          <p:spPr>
            <a:xfrm>
              <a:off x="20520" y="974880"/>
              <a:ext cx="2510640" cy="453960"/>
            </a:xfrm>
            <a:custGeom>
              <a:avLst/>
              <a:gdLst/>
              <a:ahLst/>
              <a:rect l="l" t="t" r="r" b="b"/>
              <a:pathLst>
                <a:path w="1680" h="285">
                  <a:moveTo>
                    <a:pt x="0" y="285"/>
                  </a:moveTo>
                  <a:lnTo>
                    <a:pt x="1680" y="285"/>
                  </a:lnTo>
                  <a:lnTo>
                    <a:pt x="139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7080" y="2293920"/>
            <a:ext cx="426744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ing a TSP Proj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67080" y="3894120"/>
            <a:ext cx="426744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0256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 Establis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roduct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siness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0256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 Assign r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def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eam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781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ar-term 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7781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5.  Devel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qualit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778120" y="397980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.  Build individu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consolida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171288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35402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354024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V="1">
            <a:off x="262728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627280" y="19224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46069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7.  Con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ssess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46069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.  Prep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riefing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65120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stmor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3690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71978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 flipV="1">
            <a:off x="445464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454640" y="1922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354024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 flipV="1">
            <a:off x="354024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65120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9. 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7"/>
          <p:cNvSpPr/>
          <p:nvPr/>
        </p:nvSpPr>
        <p:spPr>
          <a:xfrm flipV="1">
            <a:off x="6359400" y="192204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6359400" y="1922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 flipH="1">
            <a:off x="5368680" y="390204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0"/>
          <p:cNvSpPr/>
          <p:nvPr/>
        </p:nvSpPr>
        <p:spPr>
          <a:xfrm flipV="1">
            <a:off x="5369040" y="367524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1025640" y="397980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 Produ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rate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71288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 flipV="1">
            <a:off x="171288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171288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714920" y="4159080"/>
            <a:ext cx="4239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TSP coach guides the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rough a defined process to devel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s plan and to negotiate that plan wi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nag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1: Establishing Product and Business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the TSP launch is for senior management and a marketing (or a customer) representative to tell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at they want the team to develop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en the product is needed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resources available to the tea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’s flexibility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y the job is importan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ow management will measure suc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Business need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anagement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rained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asse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Historical data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 Coach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team goals linked to business needs, management goals, and 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role manager assignments for self-directed team and objective evaluation of adherence to plan an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key features, requirements, and work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yclic product development strategy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ize estimate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ilored process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sk plan for each work product based on the tailore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ffort estimate for each ta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stimated schedule of available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arned valu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ilestones for schedule-based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quality plan to meet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product and process quality criteria for controlling phase entry and exit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Risk assessment and mitigation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ssigned resource for every business and product objective, work product, task, goal, and ri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Overall plan to end of proje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Detailed next-cycl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lternative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pproved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c4f82"/>
                </a:solidFill>
                <a:latin typeface="Arial"/>
              </a:rPr>
              <a:t>Empowered and committed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228600" y="2057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: The business need for th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: The desired produ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SP meeting should have an agenda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scribes the meeting’s purpo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s the attende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gives the topics and their planned tim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names the discussion lea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genda for this meeting is under the tab “Meeting 1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having an agenda, you will have more productive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meeting is worth holding, it is worth rep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eport sh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be brief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 the key decisions and conclus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 all planned ac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ing the actions and decisions will help you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 on what is to be done and remember to do i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 your commi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2: Establishing Team Self-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ets its goals and picks its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tarts with the goals that management stated in the opening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views and refines these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s team-specific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s on the team’s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divides the team management roles so each member has a role respon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82760" y="4389480"/>
          <a:ext cx="8229600" cy="1554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Interface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3: Producing the Development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76720" y="129492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looks at the project from several persp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members define the product that they will build and how to buil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onceptual design and size estimat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trategy for meeting the team’s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ll the products that must be produced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for doing the job right the first tim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ny support activities that must be done by the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stimates help the team to estimate how much time the project will 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describes the strategy and process independent of schedule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333360" y="1344600"/>
            <a:ext cx="2486160" cy="4522680"/>
            <a:chOff x="333360" y="1344600"/>
            <a:chExt cx="2486160" cy="4522680"/>
          </a:xfrm>
        </p:grpSpPr>
        <p:sp>
          <p:nvSpPr>
            <p:cNvPr id="183" name="Rectangle 5"/>
            <p:cNvSpPr/>
            <p:nvPr/>
          </p:nvSpPr>
          <p:spPr>
            <a:xfrm>
              <a:off x="488880" y="5238720"/>
              <a:ext cx="2125800" cy="62856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536760" y="4248360"/>
              <a:ext cx="2098440" cy="7887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507960" y="3279960"/>
              <a:ext cx="209880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550800" y="2311560"/>
              <a:ext cx="209736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51000" y="5359320"/>
              <a:ext cx="2415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 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558720" y="4334040"/>
              <a:ext cx="2086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cess, suppor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333360" y="3362400"/>
              <a:ext cx="2473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ist of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duc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1560600" y="4070520"/>
              <a:ext cx="0" cy="16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1560600" y="5037120"/>
              <a:ext cx="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550800" y="2422440"/>
              <a:ext cx="2089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velopmen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573200" y="31021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6"/>
            <p:cNvSpPr/>
            <p:nvPr/>
          </p:nvSpPr>
          <p:spPr>
            <a:xfrm>
              <a:off x="523800" y="1344600"/>
              <a:ext cx="2098800" cy="789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345960" y="1428840"/>
              <a:ext cx="247356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onceptual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sig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1573200" y="21337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4: Building the Overall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00400" y="11426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builds an overall plan for the entir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defined in sequence from project start to finish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follow the team’s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include all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re detailed for the next phas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 needed to do each task is estimated based on size and productivity data or directly based on past exper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scheduled based on the team’s available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overall plan appears not to satisfy management’s goals, the team may create some alternative propos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333360" y="1371600"/>
            <a:ext cx="2486160" cy="4592160"/>
            <a:chOff x="333360" y="1371600"/>
            <a:chExt cx="2486160" cy="4592160"/>
          </a:xfrm>
        </p:grpSpPr>
        <p:sp>
          <p:nvSpPr>
            <p:cNvPr id="200" name="Rectangle 5"/>
            <p:cNvSpPr/>
            <p:nvPr/>
          </p:nvSpPr>
          <p:spPr>
            <a:xfrm>
              <a:off x="351000" y="5321160"/>
              <a:ext cx="2332080" cy="642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6"/>
            <p:cNvSpPr/>
            <p:nvPr/>
          </p:nvSpPr>
          <p:spPr>
            <a:xfrm>
              <a:off x="381240" y="4340160"/>
              <a:ext cx="2301840" cy="8074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7"/>
            <p:cNvSpPr/>
            <p:nvPr/>
          </p:nvSpPr>
          <p:spPr>
            <a:xfrm>
              <a:off x="381240" y="3350880"/>
              <a:ext cx="23018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8"/>
            <p:cNvSpPr/>
            <p:nvPr/>
          </p:nvSpPr>
          <p:spPr>
            <a:xfrm>
              <a:off x="381240" y="2357280"/>
              <a:ext cx="2301840" cy="8092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9"/>
            <p:cNvSpPr/>
            <p:nvPr/>
          </p:nvSpPr>
          <p:spPr>
            <a:xfrm>
              <a:off x="373320" y="1371600"/>
              <a:ext cx="23000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"/>
            <p:cNvSpPr/>
            <p:nvPr/>
          </p:nvSpPr>
          <p:spPr>
            <a:xfrm>
              <a:off x="401760" y="5497200"/>
              <a:ext cx="22240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Overall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1"/>
            <p:cNvSpPr/>
            <p:nvPr/>
          </p:nvSpPr>
          <p:spPr>
            <a:xfrm>
              <a:off x="333360" y="4503600"/>
              <a:ext cx="2486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vailable ti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2"/>
            <p:cNvSpPr/>
            <p:nvPr/>
          </p:nvSpPr>
          <p:spPr>
            <a:xfrm>
              <a:off x="406440" y="3479400"/>
              <a:ext cx="22384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16160" y="2517480"/>
              <a:ext cx="2297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in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1533600" y="4159080"/>
              <a:ext cx="0" cy="167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533600" y="3166920"/>
              <a:ext cx="0" cy="17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533600" y="5148000"/>
              <a:ext cx="0" cy="17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7"/>
            <p:cNvSpPr/>
            <p:nvPr/>
          </p:nvSpPr>
          <p:spPr>
            <a:xfrm>
              <a:off x="406440" y="1547640"/>
              <a:ext cx="2298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siz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1524240" y="2179440"/>
              <a:ext cx="0" cy="169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5: Developing the Quality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124080" y="12949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builds a quality plan for the product that shows how the team will achieve its product quality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checks the quality plan against the goals and the overall pla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nsure that they are consistent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eck for needed adjus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TSP, software quality during product development is measured by counting defects and normalizing by the appropriate size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390600" y="1547640"/>
            <a:ext cx="1971720" cy="4014720"/>
            <a:chOff x="390600" y="1547640"/>
            <a:chExt cx="1971720" cy="4014720"/>
          </a:xfrm>
        </p:grpSpPr>
        <p:sp>
          <p:nvSpPr>
            <p:cNvPr id="217" name="Rectangle 5"/>
            <p:cNvSpPr/>
            <p:nvPr/>
          </p:nvSpPr>
          <p:spPr>
            <a:xfrm>
              <a:off x="497160" y="4846680"/>
              <a:ext cx="1752480" cy="7156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6"/>
            <p:cNvSpPr/>
            <p:nvPr/>
          </p:nvSpPr>
          <p:spPr>
            <a:xfrm>
              <a:off x="497160" y="3755880"/>
              <a:ext cx="1728720" cy="9000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"/>
            <p:cNvSpPr/>
            <p:nvPr/>
          </p:nvSpPr>
          <p:spPr>
            <a:xfrm>
              <a:off x="520920" y="2652480"/>
              <a:ext cx="1728720" cy="9003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8"/>
            <p:cNvSpPr/>
            <p:nvPr/>
          </p:nvSpPr>
          <p:spPr>
            <a:xfrm>
              <a:off x="497160" y="1547640"/>
              <a:ext cx="1728720" cy="9018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9"/>
            <p:cNvSpPr/>
            <p:nvPr/>
          </p:nvSpPr>
          <p:spPr>
            <a:xfrm>
              <a:off x="609840" y="4930560"/>
              <a:ext cx="15825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617760" y="1676160"/>
              <a:ext cx="1587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go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457200" y="2781360"/>
              <a:ext cx="1884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inject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2"/>
            <p:cNvSpPr/>
            <p:nvPr/>
          </p:nvSpPr>
          <p:spPr>
            <a:xfrm>
              <a:off x="390600" y="3917880"/>
              <a:ext cx="19717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remov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>
              <a:off x="1382760" y="3552840"/>
              <a:ext cx="0" cy="188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1362240" y="2449440"/>
              <a:ext cx="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>
              <a:off x="1362240" y="4655880"/>
              <a:ext cx="0" cy="19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6: Building Detailed Next-phase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71440" y="129492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s for the next phase are allocated to the develo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developers build their own work plans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balances the workload so that everyone completes their next-phase tasks at approximately the same time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merges the individual work plans to form a consolidated team plan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an is used by the team to guide and track its work during the upcoming project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457200" y="1523880"/>
            <a:ext cx="1903320" cy="4201560"/>
            <a:chOff x="457200" y="1523880"/>
            <a:chExt cx="1903320" cy="4201560"/>
          </a:xfrm>
        </p:grpSpPr>
        <p:sp>
          <p:nvSpPr>
            <p:cNvPr id="231" name="Oval 5"/>
            <p:cNvSpPr/>
            <p:nvPr/>
          </p:nvSpPr>
          <p:spPr>
            <a:xfrm>
              <a:off x="581040" y="152388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"/>
            <p:cNvSpPr/>
            <p:nvPr/>
          </p:nvSpPr>
          <p:spPr>
            <a:xfrm>
              <a:off x="603000" y="2649600"/>
              <a:ext cx="163512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7"/>
            <p:cNvSpPr/>
            <p:nvPr/>
          </p:nvSpPr>
          <p:spPr>
            <a:xfrm>
              <a:off x="581040" y="377496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591840" y="4892400"/>
              <a:ext cx="1657440" cy="7318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9"/>
            <p:cNvSpPr/>
            <p:nvPr/>
          </p:nvSpPr>
          <p:spPr>
            <a:xfrm>
              <a:off x="457200" y="4944960"/>
              <a:ext cx="190332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0"/>
            <p:cNvSpPr/>
            <p:nvPr/>
          </p:nvSpPr>
          <p:spPr>
            <a:xfrm>
              <a:off x="693720" y="1689120"/>
              <a:ext cx="15033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llocat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1"/>
            <p:cNvSpPr/>
            <p:nvPr/>
          </p:nvSpPr>
          <p:spPr>
            <a:xfrm>
              <a:off x="541080" y="2817720"/>
              <a:ext cx="17859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ndividual pla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2"/>
            <p:cNvSpPr/>
            <p:nvPr/>
          </p:nvSpPr>
          <p:spPr>
            <a:xfrm>
              <a:off x="477720" y="3905280"/>
              <a:ext cx="18684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 workloa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1420560" y="3568680"/>
              <a:ext cx="0" cy="19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4"/>
            <p:cNvSpPr/>
            <p:nvPr/>
          </p:nvSpPr>
          <p:spPr>
            <a:xfrm>
              <a:off x="1396800" y="2442960"/>
              <a:ext cx="0" cy="19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1396800" y="4694040"/>
              <a:ext cx="0" cy="19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7: Conducting a Risk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identifies and assesses the risks to its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ach risk is assessed for impact and likelihood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itigation plans are defined for high- and medium-priority risks.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isk is assigned to a team member for investigation and tra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8: Preparing the Management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prepares a presentation of the plan to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eam’s plan does not meet management’s goals, the team includes alternative plans that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 more resourc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liver  a reduced-functionality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tart small and follow later with a fully functioned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561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marks and Service Ma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service marks of Carnegie Mellon Univer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ersonal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registered trademarks of Carnegie Mellon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 baseline="30000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ERT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oftware Engineering Institu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was developed at the Software Engineering Institute (SEI), a unit of Carnegie Mellon University (CM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greement with CMU to use the TSP materials requires that you provide data from TSP projects to the S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use that data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mprove the TSP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vide guidelines and benchmark data to TSP users to help them plan and manage TSP projec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not publicize or attribute your data without your explicit permission, unless you have already published these data in a public se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e ar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is workshop is to launch you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performs essential planning tasks that are part of the project work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is not a course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first step in starting your TSP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for meeting 1 i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al and project management to describe the project objectives and management goals to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members to understand what the team is supposed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Workshop Note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unch workshop notebook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launch schedul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s for each launch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 contents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ing agenda and meeting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aunch scripts and form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ecture overhead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ning, quality, and management briefing guidelin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, notebook, status, and summary specifica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orms, and scrip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is organized as a set of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SP meeting has roles, an agenda, and a meeting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ol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airperson: arranges and leads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acilitator/timekeep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elps the team follow the agenda and the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racks and notes meeting times on the agenda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s all important decisions (what and who) and planned actions (what, who, when)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verifies the actions and decisions with the meeting attendees at the end of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228600" y="1295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e TSP La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unch establishes a common team understanding of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’s goals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eam and team members’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cesses that the team will u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s that the team members will perfor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velopment work to be don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 for doing the work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 and customer reporting syste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ongoing team communication pro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4:55:26Z</dcterms:created>
  <dc:creator>jdm</dc:creator>
  <dc:description/>
  <dc:language>en-US</dc:language>
  <cp:lastModifiedBy>wrn_loc_adm</cp:lastModifiedBy>
  <cp:lastPrinted>2006-06-21T20:45:34Z</cp:lastPrinted>
  <dcterms:modified xsi:type="dcterms:W3CDTF">2018-09-06T00:18:04Z</dcterms:modified>
  <cp:revision>15</cp:revision>
  <dc:subject/>
  <dc:title>SEI Presentation (Basic): Preformatted Design and Template Items </dc:title>
</cp:coreProperties>
</file>